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10F8-BFCD-4418-B43A-51C031DA712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421C-1664-43DE-87D5-27C9167DD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F4D1-8B09-41E3-8756-B550BFB13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22267D-09A0-4C79-BE43-A76DD15A6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78793A-F2D4-46A2-A92A-06A473A62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D794A8-7197-467A-A7DE-C50E29CB9C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3F666B-641A-4116-856C-AB978B12E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97FC5-4D00-40E1-A9B2-4FB460C09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1C1C2-38BA-4926-A8C2-5A3FF8B9A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29152-3EA8-468E-98E6-BD7209895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D5B10-AC26-44A1-A5CB-E3BC47B28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C0F27-5084-468E-BA58-4BCC36140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50E89-6303-4C60-9CA8-CFD711340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9764-D900-4CE5-BEF9-BE6BAEDFF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B81F2-7ED5-4A22-8B6C-2A8106174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D4FCB-48DD-4873-9D8D-9AAD0AFF5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15FC1-DE45-496C-AF3F-B18A9DDAA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BEA5A-929C-4E94-AA9B-BDC709B93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99D5E-2A83-4A77-B2F8-6FE57E986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59028-25E0-429B-8BB4-7CE7817CC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7EFB40-E73B-4B47-96BB-C74708B57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0ABA6-F6E8-45B8-84C6-65114E04C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6DD20B-DDA7-4AB3-9636-4FDAC3AA1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9411A-4111-4D5C-B9A3-579570CED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EB6D3C-BA69-4093-81C6-3118268CB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FD76F5-65FD-4C1E-ADD5-EC3EEE34A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D79F7-A3D5-4CD9-8A66-1020B70248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38EA-2DED-4B86-8787-98204D5DE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2B60-092E-4017-8A0D-2C6D3BBDC0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228600" y="155520"/>
            <a:ext cx="86868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
          <p:cNvSpPr/>
          <p:nvPr/>
        </p:nvSpPr>
        <p:spPr>
          <a:xfrm>
            <a:off x="3200400" y="2286000"/>
            <a:ext cx="5638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mes, Motifs and Symbols</a:t>
            </a:r>
            <a:endParaRPr b="0" lang="en-US" sz="4000" spc="-1" strike="noStrike">
              <a:solidFill>
                <a:srgbClr val="000000"/>
              </a:solidFill>
              <a:latin typeface="Arial"/>
            </a:endParaRPr>
          </a:p>
        </p:txBody>
      </p:sp>
      <p:sp>
        <p:nvSpPr>
          <p:cNvPr id="115" name="Rectangle 4"/>
          <p:cNvSpPr/>
          <p:nvPr/>
        </p:nvSpPr>
        <p:spPr>
          <a:xfrm>
            <a:off x="304920" y="4419720"/>
            <a:ext cx="8477280" cy="45720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se characters thrive on hysteria?</a:t>
            </a:r>
            <a:endParaRPr b="0" lang="en-US" sz="3200" spc="-1" strike="noStrike">
              <a:solidFill>
                <a:srgbClr val="000000"/>
              </a:solidFill>
              <a:latin typeface="Arial"/>
            </a:endParaRPr>
          </a:p>
        </p:txBody>
      </p:sp>
      <p:sp>
        <p:nvSpPr>
          <p:cNvPr id="135" name="PlaceHolder 2"/>
          <p:cNvSpPr>
            <a:spLocks noGrp="1"/>
          </p:cNvSpPr>
          <p:nvPr>
            <p:ph/>
          </p:nvPr>
        </p:nvSpPr>
        <p:spPr>
          <a:xfrm>
            <a:off x="304920" y="15235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gail: uses situation to accuse Elizabeth Proctor of witchcraft and has her jail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end Parris: strengthens his position within the village (temporarily) by making scapegoats of those who question authority e.g. John Pro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eputation</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o protect one’s reputation [John/Rebecc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tation, which is closely linked to ambition, has been the cause of time and time again for the downfall of not only individuals, but of civiliz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important in theocratic Sal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3160" y="914400"/>
            <a:ext cx="8305560" cy="556272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lt by association: </a:t>
            </a:r>
            <a:r>
              <a:rPr b="0" lang="en-US" sz="2400" spc="-1" strike="noStrike" u="sng">
                <a:solidFill>
                  <a:srgbClr val="000000"/>
                </a:solidFill>
                <a:uFillTx/>
                <a:latin typeface="Arial"/>
              </a:rPr>
              <a:t>their sins will taint your nam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ris fears Abigail’s questionable behavior and hints of witchcraft surrounding Betty will threaten and force him from the pulpit.</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gail- my name is whit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e Danforth- concerned for his reputation; won’t change his position</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Proctor - early in the play – has a chance to stop the girl’s accusations but his desire to preserve his reputation keeps him from testifying against Abigail</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play’s end – desire to keep his good name prevents him from a false confession</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have given you my soul; leave me my name!” (Proctor to Danforth in Act IV)</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7" dur="500"/>
                                        <p:tgtEl>
                                          <p:spTgt spid="138">
                                            <p:txEl>
                                              <p:pRg st="4" end="4"/>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2" dur="500"/>
                                        <p:tgtEl>
                                          <p:spTgt spid="13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7" dur="500"/>
                                        <p:tgtEl>
                                          <p:spTgt spid="13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2" dur="500"/>
                                        <p:tgtEl>
                                          <p:spTgt spid="13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7" dur="500"/>
                                        <p:tgtEl>
                                          <p:spTgt spid="13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32" dur="500"/>
                                        <p:tgtEl>
                                          <p:spTgt spid="13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3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etrayal</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 sense of community can be ruined by betrayal. Relationships are broken by betrayal.</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trayal between a husband and a wife within the sanctity of a conventional marriag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gail betrays her whole community in order to seduce John. </a:t>
            </a:r>
            <a:endParaRPr b="0" lang="en-US" sz="28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o falsely confess to witchcraft betray their r</a:t>
            </a:r>
            <a:r>
              <a:rPr b="0" lang="en-US" sz="3200" spc="-1" strike="noStrike">
                <a:solidFill>
                  <a:srgbClr val="000000"/>
                </a:solidFill>
                <a:latin typeface="Arial"/>
              </a:rPr>
              <a:t>elationship with God and their chu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ower and Authority</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en those in power abuse their authority, individuals must take action to fight injustice. Does this happen in the play??</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t is important not to abuse one’s power when given authority.</a:t>
            </a:r>
            <a:endParaRPr b="0" lang="en-US" sz="28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ble is the ultimate authority; authority of the Court is absolut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 of authority - Danforth felt the law should be followed exactly, and that anyone who opposed the trials was trying to undermine him and his authority and the church.</a:t>
            </a:r>
            <a:endParaRPr b="0" lang="en-US" sz="2400" spc="-1" strike="noStrike">
              <a:solidFill>
                <a:srgbClr val="000000"/>
              </a:solidFill>
              <a:latin typeface="Arial"/>
            </a:endParaRPr>
          </a:p>
          <a:p>
            <a:pPr marL="335880" indent="-3358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irls and some women are empowered by the trials.</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Individual Vs Society</a:t>
            </a:r>
            <a:endParaRPr b="0" lang="en-US" sz="4400" spc="-1" strike="noStrike">
              <a:solidFill>
                <a:srgbClr val="000000"/>
              </a:solidFill>
              <a:latin typeface="Arial"/>
            </a:endParaRPr>
          </a:p>
        </p:txBody>
      </p:sp>
      <p:sp>
        <p:nvSpPr>
          <p:cNvPr id="144" name="PlaceHolder 2"/>
          <p:cNvSpPr>
            <a:spLocks noGrp="1"/>
          </p:cNvSpPr>
          <p:nvPr>
            <p:ph/>
          </p:nvPr>
        </p:nvSpPr>
        <p:spPr>
          <a:xfrm>
            <a:off x="457200" y="1676160"/>
            <a:ext cx="8229600" cy="41907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ne must rise over adversity and injustice and stand for the truth.</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insight to life is not to be so quick to follow the majority, for they are not always righ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e should strive to think for ourselves on an individual bas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e should not judge others because we all have fa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ruth and Lies</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s deception ever justif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Stand for the tru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itan ethics meant most people abhorred ly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igail lies throughout the pl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izabeth cannot tell a lie … but d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otif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tifs are recurring structures, contrasts, or literary devices that can help to develop and inform the text’s major 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kness and Dirt Images</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ry of </a:t>
            </a:r>
            <a:r>
              <a:rPr b="0" lang="en-US" sz="3200" spc="-1" strike="noStrike" u="sng">
                <a:solidFill>
                  <a:srgbClr val="666699"/>
                </a:solidFill>
                <a:uFillTx/>
                <a:latin typeface="Arial"/>
              </a:rPr>
              <a:t>darkness</a:t>
            </a:r>
            <a:r>
              <a:rPr b="1" lang="en-US" sz="3200" spc="-1" strike="noStrike">
                <a:solidFill>
                  <a:srgbClr val="000000"/>
                </a:solidFill>
                <a:latin typeface="Arial"/>
              </a:rPr>
              <a:t> and </a:t>
            </a:r>
            <a:r>
              <a:rPr b="0" lang="en-US" sz="3200" spc="-1" strike="noStrike" u="sng">
                <a:solidFill>
                  <a:srgbClr val="666699"/>
                </a:solidFill>
                <a:uFillTx/>
                <a:latin typeface="Arial"/>
              </a:rPr>
              <a:t>dirt</a:t>
            </a:r>
            <a:r>
              <a:rPr b="0" lang="en-US" sz="3200" spc="-1" strike="noStrike">
                <a:solidFill>
                  <a:srgbClr val="000000"/>
                </a:solidFill>
                <a:latin typeface="Arial"/>
              </a:rPr>
              <a:t> represent sin and evil.  Reverend Parris questions Abigail's purity by saying; Your name in the town-it is entirely white, is it not? She argues that her name is not soiled.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of Salem are obsessed with preserving the perceived cleanliness of their sou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cusations, Confessions, and Legal Proceedings</a:t>
            </a:r>
            <a:endParaRPr b="0" lang="en-US" sz="4000" spc="-1" strike="noStrike">
              <a:solidFill>
                <a:srgbClr val="000000"/>
              </a:solidFill>
              <a:latin typeface="Arial"/>
            </a:endParaRPr>
          </a:p>
        </p:txBody>
      </p:sp>
      <p:sp>
        <p:nvSpPr>
          <p:cNvPr id="152" name="PlaceHolder 2"/>
          <p:cNvSpPr>
            <a:spLocks noGrp="1"/>
          </p:cNvSpPr>
          <p:nvPr>
            <p:ph/>
          </p:nvPr>
        </p:nvSpPr>
        <p:spPr>
          <a:xfrm>
            <a:off x="457200" y="2286000"/>
            <a:ext cx="8305920" cy="419112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ris accuses Abigail of dishonoring him</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ris accuses some of his parishioner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es Corey and Proctor accuse him of things in return</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proceedings in the past are alluded to </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nam accuses others</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sations are the only way that witches can be ident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heme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ntral idea or underlying meaning of a literary wor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eals with an </a:t>
            </a:r>
            <a:r>
              <a:rPr b="1" lang="en-US" sz="3200" spc="-1" strike="noStrike">
                <a:solidFill>
                  <a:srgbClr val="000000"/>
                </a:solidFill>
                <a:latin typeface="Arial"/>
              </a:rPr>
              <a:t>abstract</a:t>
            </a:r>
            <a:r>
              <a:rPr b="0" lang="en-US" sz="3200" spc="-1" strike="noStrike">
                <a:solidFill>
                  <a:srgbClr val="000000"/>
                </a:solidFill>
                <a:latin typeface="Arial"/>
              </a:rPr>
              <a:t> concept that is made </a:t>
            </a:r>
            <a:r>
              <a:rPr b="1" lang="en-US" sz="3200" spc="-1" strike="noStrike">
                <a:solidFill>
                  <a:srgbClr val="000000"/>
                </a:solidFill>
                <a:latin typeface="Arial"/>
              </a:rPr>
              <a:t>concrete</a:t>
            </a:r>
            <a:r>
              <a:rPr b="0" lang="en-US" sz="3200" spc="-1" strike="noStrike">
                <a:solidFill>
                  <a:srgbClr val="000000"/>
                </a:solidFill>
                <a:latin typeface="Arial"/>
              </a:rPr>
              <a:t> through representation in character, action, and im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essions</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ssions provide the proof of the justi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tor confesses to adultery but this confession is trumped by the accusation of witchcraft against him, which in turn demands a conf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tor’s courageous decision to die rather than confess to a sin that he did not commit, finally breaks the cyc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collapses shortly afterward, undone by the refusal of its victims to propagate l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Symbols</a:t>
            </a:r>
            <a:endParaRPr b="0" lang="en-US" sz="4400" spc="-1" strike="noStrike">
              <a:solidFill>
                <a:srgbClr val="000000"/>
              </a:solidFill>
              <a:latin typeface="Arial"/>
            </a:endParaRPr>
          </a:p>
        </p:txBody>
      </p:sp>
      <p:sp>
        <p:nvSpPr>
          <p:cNvPr id="156" name="PlaceHolder 2"/>
          <p:cNvSpPr>
            <a:spLocks noGrp="1"/>
          </p:cNvSpPr>
          <p:nvPr>
            <p:ph/>
          </p:nvPr>
        </p:nvSpPr>
        <p:spPr>
          <a:xfrm>
            <a:off x="380880" y="1752120"/>
            <a:ext cx="838224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characters, figures, or colors used to represent abstract ideas or concep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whole the play symbolizes the paranoia of the 1950’s communist “red scare” in Americ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mindedn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enthusiasm for a caus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regard for the individual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for naming names (co-conspirato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0000"/>
              </a:solidFill>
              <a:uFillTx/>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ress - the church is seen in this manner. But while the metaphor used suggests one crack may break it, we also see that rigidity or the lack of an open mind can bring down an edifice just as quickl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wn 'the new sun' - the end of the play suggests the start of a new day where right is restored and the evil has been expell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te - Used for the term for good. Usually used to describe reput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ck - Term used for evi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re be no blush about my name”</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rse/Animal Reference – suggesting lack of human values and understand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itch Trials and McCarthyism - symbolic of the paranoia about communism that pervaded America in the 1950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he Title: The Crucible</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4419720"/>
          </a:xfrm>
          <a:prstGeom prst="rect">
            <a:avLst/>
          </a:prstGeom>
          <a:noFill/>
          <a:ln w="0">
            <a:noFill/>
          </a:ln>
        </p:spPr>
        <p:txBody>
          <a:bodyPr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2800" spc="-1" strike="noStrike">
                <a:solidFill>
                  <a:srgbClr val="000000"/>
                </a:solidFill>
                <a:latin typeface="Arial"/>
              </a:rPr>
              <a:t>trial that ultimately reveals a person's true character‘</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elting pot</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e burn a hot fire here.  It melts down all concealment” Danforth</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cible - it is meant to purify, usually by fire. A great irony since the 'fire' that burns in Salem does not purify. Instead it muddles (confuses) and corrupts. Thus a fire burning for the wrong reason is not able to purify. </a:t>
            </a:r>
            <a:endParaRPr b="0" lang="en-US" sz="24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place, time, or situation characterized by the confluence of powerful intellectual, social, economic, or political forces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egory</a:t>
            </a:r>
            <a:endParaRPr b="0" lang="en-US" sz="4400" spc="-1" strike="noStrike">
              <a:solidFill>
                <a:srgbClr val="000000"/>
              </a:solidFill>
              <a:latin typeface="Arial"/>
            </a:endParaRPr>
          </a:p>
        </p:txBody>
      </p:sp>
      <p:sp>
        <p:nvSpPr>
          <p:cNvPr id="164" name=""/>
          <p:cNvSpPr txBox="1"/>
          <p:nvPr/>
        </p:nvSpPr>
        <p:spPr>
          <a:xfrm>
            <a:off x="457200" y="1523520"/>
            <a:ext cx="8229600" cy="4343400"/>
          </a:xfrm>
          <a:prstGeom prst="rect">
            <a:avLst/>
          </a:prstGeom>
          <a:noFill/>
          <a:ln w="0">
            <a:noFill/>
          </a:ln>
        </p:spPr>
        <p:txBody>
          <a:bodyPr anchor="t">
            <a:normAutofit fontScale="99000"/>
          </a:bodyPr>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 of an extended metaphor, in which objects, persons, and actions are equated with the meanings that lie outside the narrative itself.</a:t>
            </a: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nderlying meaning has moral, social, religious or political significance.</a:t>
            </a: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s an allegory is a story with two meanings, a literal meaning and a symbolic mea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Topics/Themes in </a:t>
            </a:r>
            <a:r>
              <a:rPr b="0" i="1" lang="en-GB" sz="4400" spc="-1" strike="noStrike" u="sng">
                <a:solidFill>
                  <a:srgbClr val="000000"/>
                </a:solidFill>
                <a:uFillTx/>
                <a:latin typeface="Arial"/>
              </a:rPr>
              <a:t>The Crucible</a:t>
            </a:r>
            <a:endParaRPr b="0" lang="en-US" sz="4400" spc="-1" strike="noStrike">
              <a:solidFill>
                <a:srgbClr val="000000"/>
              </a:solidFill>
              <a:latin typeface="Arial"/>
            </a:endParaRPr>
          </a:p>
        </p:txBody>
      </p:sp>
      <p:sp>
        <p:nvSpPr>
          <p:cNvPr id="119" name="PlaceHolder 2"/>
          <p:cNvSpPr>
            <a:spLocks noGrp="1"/>
          </p:cNvSpPr>
          <p:nvPr>
            <p:ph/>
          </p:nvPr>
        </p:nvSpPr>
        <p:spPr>
          <a:xfrm>
            <a:off x="304560" y="1676160"/>
            <a:ext cx="4647960" cy="3886200"/>
          </a:xfrm>
          <a:prstGeom prst="rect">
            <a:avLst/>
          </a:prstGeom>
          <a:noFill/>
          <a:ln w="0">
            <a:noFill/>
          </a:ln>
        </p:spPr>
        <p:txBody>
          <a:bodyPr anchor="t">
            <a:normAutofit fontScale="94000"/>
          </a:bodyPr>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ce vs. Retribution and Revenge</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olerance</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steria</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rayal</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ecution</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vs. Individual Freedom</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vs Evil</a:t>
            </a:r>
            <a:endParaRPr b="0" lang="en-US" sz="2800" spc="-1" strike="noStrike">
              <a:solidFill>
                <a:srgbClr val="000000"/>
              </a:solidFill>
              <a:latin typeface="Arial"/>
            </a:endParaRPr>
          </a:p>
        </p:txBody>
      </p:sp>
      <p:sp>
        <p:nvSpPr>
          <p:cNvPr id="120" name="Rectangle 4"/>
          <p:cNvSpPr/>
          <p:nvPr/>
        </p:nvSpPr>
        <p:spPr>
          <a:xfrm>
            <a:off x="4800600" y="1600200"/>
            <a:ext cx="4343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cruelty in the name of righteousn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ividual and the Community/socie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dliness vs. Worldlin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ance vs. Wisd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and Author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More  …</a:t>
            </a:r>
            <a:endParaRPr b="0" lang="en-US" sz="3600" spc="-1" strike="noStrike">
              <a:solidFill>
                <a:srgbClr val="000000"/>
              </a:solidFill>
              <a:latin typeface="Arial"/>
            </a:endParaRPr>
          </a:p>
        </p:txBody>
      </p:sp>
      <p:sp>
        <p:nvSpPr>
          <p:cNvPr id="122" name="PlaceHolder 2"/>
          <p:cNvSpPr>
            <a:spLocks noGrp="1"/>
          </p:cNvSpPr>
          <p:nvPr>
            <p:ph/>
          </p:nvPr>
        </p:nvSpPr>
        <p:spPr>
          <a:xfrm>
            <a:off x="456840" y="1980720"/>
            <a:ext cx="43434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ust and Env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a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li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i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ruption and Lies</a:t>
            </a:r>
            <a:endParaRPr b="0" lang="en-US" sz="3200" spc="-1" strike="noStrike">
              <a:solidFill>
                <a:srgbClr val="000000"/>
              </a:solidFill>
              <a:latin typeface="Arial"/>
            </a:endParaRPr>
          </a:p>
        </p:txBody>
      </p:sp>
      <p:sp>
        <p:nvSpPr>
          <p:cNvPr id="123" name="Rectangle 4"/>
          <p:cNvSpPr/>
          <p:nvPr/>
        </p:nvSpPr>
        <p:spPr>
          <a:xfrm>
            <a:off x="4495680" y="1981080"/>
            <a:ext cx="4343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cience/Integr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given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i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yalty and Lov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Human Weaknesse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st - John Proctor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 Reverend Hale, John Proctor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d - Reverend Parris, Thomas Putnam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ge - Mrs. Putnam, Abigail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ance - Giles Core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indulgence - the girl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honesty - Abigail, the girls, John Procto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Human Strengths</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y – Elizabeth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yalty – Elizabeth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rage – John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giveness – Elizabeth Pro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ith – Rebecca Nur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son – Rebecca N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rPr>
              <a:t>Revenge</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doesn’t profit many; it is a deadly game.</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igail gets revenge on John and Elizabeth Proctor</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girls and the accusers were naming people whom they did not like and whom they wanted to harm</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as Putnam gains revenge on Francis Nurse by getting Rebecca, his wife, convicted of murdering his (and Ann Putnam’s) babies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olerance</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686800" cy="3886200"/>
          </a:xfrm>
          <a:prstGeom prst="rect">
            <a:avLst/>
          </a:prstGeom>
          <a:noFill/>
          <a:ln w="0">
            <a:noFill/>
          </a:ln>
        </p:spPr>
        <p:txBody>
          <a:bodyPr anchor="t">
            <a:normAutofit fontScale="96000"/>
          </a:bodyPr>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 cause injustice, pain, and tragedy.</a:t>
            </a: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3600" spc="-1" strike="noStrike">
                <a:solidFill>
                  <a:srgbClr val="000000"/>
                </a:solidFill>
                <a:latin typeface="Arial"/>
              </a:rPr>
              <a:t>theocratic</a:t>
            </a:r>
            <a:r>
              <a:rPr b="0" lang="en-US" sz="2800" spc="-1" strike="noStrike">
                <a:solidFill>
                  <a:srgbClr val="000000"/>
                </a:solidFill>
                <a:latin typeface="Arial"/>
              </a:rPr>
              <a:t> society</a:t>
            </a:r>
            <a:endParaRPr b="0" lang="en-US" sz="2800" spc="-1" strike="noStrike">
              <a:solidFill>
                <a:srgbClr val="000000"/>
              </a:solidFill>
              <a:latin typeface="Arial"/>
            </a:endParaRPr>
          </a:p>
          <a:p>
            <a:pPr lvl="1" marL="713160" indent="-27432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urch (moral) and state are the same</a:t>
            </a:r>
            <a:endParaRPr b="0" lang="en-US" sz="3200" spc="-1" strike="noStrike">
              <a:solidFill>
                <a:srgbClr val="000000"/>
              </a:solidFill>
              <a:latin typeface="Arial"/>
            </a:endParaRPr>
          </a:p>
          <a:p>
            <a:pPr lvl="1" marL="713160" indent="-27432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n and status of an individual’s soul are of public concern</a:t>
            </a:r>
            <a:endParaRPr b="0" lang="en-US" sz="3200" spc="-1" strike="noStrike">
              <a:solidFill>
                <a:srgbClr val="000000"/>
              </a:solidFill>
              <a:latin typeface="Arial"/>
            </a:endParaRPr>
          </a:p>
          <a:p>
            <a:pPr lvl="1" marL="713160" indent="-274320">
              <a:lnSpc>
                <a:spcPct val="8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veryone belongs to either God or the devil</a:t>
            </a:r>
            <a:endParaRPr b="0" lang="en-US" sz="3200" spc="-1" strike="noStrike">
              <a:solidFill>
                <a:srgbClr val="000000"/>
              </a:solidFill>
              <a:latin typeface="Arial"/>
            </a:endParaRPr>
          </a:p>
          <a:p>
            <a:pPr lvl="2" marL="1097280" indent="-219240">
              <a:lnSpc>
                <a:spcPct val="80000"/>
              </a:lnSpc>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erson is either with this court or he must be counted against it.” (Danforth, Act III)</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ysteria</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 divide a community and cause traged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logic and reas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people to believe their neighbors are guilty of committing absurd and unbelievable crim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ecome active in the hysterical climate for 2 reasons: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genuine religious faithfuln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 to act on long-held grudg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2T18:54:09Z</dcterms:created>
  <dc:creator> Jocelyne Kumetz</dc:creator>
  <dc:description/>
  <dc:language>en-US</dc:language>
  <cp:lastModifiedBy>IHS ILS</cp:lastModifiedBy>
  <cp:lastPrinted>2010-10-22T19:30:33Z</cp:lastPrinted>
  <dcterms:modified xsi:type="dcterms:W3CDTF">2010-10-25T12:26:53Z</dcterms:modified>
  <cp:revision>16</cp:revision>
  <dc:subject/>
  <dc:title>Slide 1</dc:title>
</cp:coreProperties>
</file>